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0.jpeg" ContentType="image/jpeg"/>
  <Override PartName="/ppt/media/image35.wmf" ContentType="image/x-wmf"/>
  <Override PartName="/ppt/media/image31.png" ContentType="image/png"/>
  <Override PartName="/ppt/media/image6.png" ContentType="image/png"/>
  <Override PartName="/ppt/media/image37.jpeg" ContentType="image/jpeg"/>
  <Override PartName="/ppt/media/image13.png" ContentType="image/png"/>
  <Override PartName="/ppt/media/image38.wmf" ContentType="image/x-wmf"/>
  <Override PartName="/ppt/media/image39.wmf" ContentType="image/x-wmf"/>
  <Override PartName="/ppt/media/image41.jpeg" ContentType="image/jpeg"/>
  <Override PartName="/ppt/media/image45.jpeg" ContentType="image/jpeg"/>
  <Override PartName="/ppt/media/image42.jpeg" ContentType="image/jpe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6E2-87F6-47A3-8D2F-BA45807E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C7A-8D36-4736-BE22-409194C1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7DF-858B-4A05-929D-0E5CAE31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C0F-DE41-40CC-8CAB-A237B40A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2A70-2739-49EA-882D-E7EEBF5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8E4-ACCD-46C0-827A-9E24280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CCAB-8CA3-47B7-86C2-02757541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847-1367-491A-9483-1DA2DE5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F02B-FEA1-4261-B084-E21879A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F4F-9399-4D66-99A1-681EED4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F7DA-FAE2-4302-BAB2-8A90DFB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730-122B-47E3-BB72-B5C5F6C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67BB-053C-4AC6-91B8-F283A73C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29F-CAAC-45A1-97DB-14C8DE4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C7F3-90E1-486E-B306-65EDCBC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DA73-DA6B-4D2C-8784-2E4C1A0B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5B8-CACD-4FBC-AA5B-3E1B8E8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CD529-F5AE-4D42-9DFC-ED8CE6E5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BF1A8-EC7C-450D-B1A5-CC380D6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05567-7AA8-4F18-A654-3A00660C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1E840-2C91-48E3-B707-851D4E2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65022-8A65-4BD0-94CB-B6D5FDC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D6A-B7CF-427D-962F-122D07B7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B3476-93AA-4DDC-9C84-E1E0A36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695B8-00ED-4E2D-BB59-F08E451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ABE38-394A-4AAB-A7FB-DEAB7C3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DD27B-76AB-4181-AAC1-E717471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C3AD6-E00F-43F8-87BF-B279433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5B73D-33A7-41CD-B1B0-958B8189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93A55-36BA-4A4F-AA2A-8EA92F36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3A942-28A9-42A7-8315-253203F3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13892-C8AE-4C85-93A7-F94B4893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5822F-3250-4804-AD06-F724124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C96-60F0-4994-8FEC-BA7D101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A8971-F595-4805-B74F-65FD51DB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B1F74-C48A-40B4-A3B0-171D513C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AAE67-A9F1-489A-BF07-769EE3E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2C259-3BE0-4FDD-9C44-138EE96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1A5E5-0C5E-4D40-948D-454FDCE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08D4F-3368-4843-83F3-60D843D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B5F59-5E29-4E99-B160-7B2DF0B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98F7A-9FB3-456E-B95C-47A4A443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BC2A6-99F8-41F5-8E7C-CE08502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43A0C-134A-4117-8EE4-3D7E1916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7F5-D728-4444-AFC6-52027E2F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79827-571D-4AA7-BA2D-609AA02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C0DEE-CF56-4A6B-94D5-824D212D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203AA-3FD4-44B7-BC7A-0AE3196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39FA0-B0E7-4DCE-B212-085C9F4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E3550-D1E2-455F-8294-8397A982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A6557-4C53-4CDA-92F2-DF034FB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56E8E-34AD-4223-810A-3D7B40C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397ED-81D0-443F-8A01-5E48A18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343FE-1A68-4E5A-BBDB-0168FBB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0EB7A-EFB2-4C8E-BB7C-C7EDE5D4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CF7-5FC1-4961-88E2-9654157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254AE-4885-4A33-B7B2-8685C530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8C18-0FE7-48FA-A842-53C6DC12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6470-EBA9-46A5-9B2D-7843F596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0209-B6BC-42B4-8632-7B32CC7B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8759-1B46-4517-B60C-D1C719A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B68A-D845-470F-991A-230EEBD1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5843-D757-4D83-B28E-4290546C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4646-E8AE-485D-80D5-7988514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6BF6-E4BB-46DE-AA27-79F72990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6CC6-04A9-4830-8091-32B4154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819-4E2F-4589-AB13-BA55DF1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DECB-216F-4473-85E3-CA4F08E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7EFE-1ADE-490A-89F8-8169F260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CFA0-6657-4B6F-A0EB-F3375A2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CACB3-1B08-4341-8408-8576C80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B0A9B-00F2-4113-A8CB-DB71466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D1127-B192-4132-9BEB-58C68E74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D2074-E0FB-4A2A-B421-8A86579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84866-7868-4BC5-A5BF-27AD9E8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C399E-DB19-4284-9307-3AF4693D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A7F4C-3E0D-429F-A1A7-E16FECA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1AC-8781-4A6E-A826-D09E05C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B3133-459F-4887-8D89-2AEDC05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7A51B-901A-4EB0-A975-48CFF48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776C9-811B-4CFA-99B0-B6210D9F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A97A7-7323-4D59-BEEC-FC31F492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26439-A059-4C88-BBC1-04ED483C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83D9-ACD7-4795-B1E3-BADC691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5112-EAB4-411F-8A4B-5BE0429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F598-822F-4203-9DE3-8874F96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017A-2C62-45CF-A19B-386B24F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6FEF-FCBB-40F2-83E6-255E37F7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850-0E0D-48B6-A3DC-D8D4FE4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51F8-DD2D-4B6A-8B04-98DEF1EE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E8C33-C485-44AB-93FF-5612F4C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4766-B31C-44C6-9D24-BC3CEA0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C397-0AF9-4FB5-8878-2494BAA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CB0E-6DBC-4C9C-8AD6-752B896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67FB-B30D-4C69-B043-03ADC1BB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A3DF-505D-4128-8CED-B552EB05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EFBF-19E9-4036-B7C2-A576CD1836B6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C81-09FE-4A46-8FC1-72122E42728C}" type="slidenum">
              <a:rPr b="1" lang="pl-P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6CF-CB0B-4503-86EA-4FFFD598FD19}" type="slidenum"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6CB-50F5-4586-85B8-D6658FE792B2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3FA-5B79-4F2B-B7C4-61F58C9359AC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BFFB-C99D-4EA3-A438-A1B728540A55}" type="slidenum">
              <a:rPr b="1" lang="pl-P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B07-EE57-418E-A968-45A8829AE1BB}" type="slidenum"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47DC-E205-44E1-8B98-53CA6334C7E2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ingegypt.com/hieroglyphic-typewriter.html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360" y="4005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70c0"/>
                </a:solidFill>
                <a:latin typeface="Tw Cen MT"/>
              </a:rPr>
              <a:t>LICZBY I CYFRY</a:t>
            </a:r>
            <a:endParaRPr b="0" lang="en-US" sz="8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w Cen MT"/>
              </a:rPr>
              <a:t>Różne sposoby zapisywania liczb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rostokąt 4" descr=""/>
          <p:cNvPicPr/>
          <p:nvPr/>
        </p:nvPicPr>
        <p:blipFill>
          <a:blip r:embed="rId1"/>
          <a:stretch/>
        </p:blipFill>
        <p:spPr>
          <a:xfrm>
            <a:off x="158760" y="2328840"/>
            <a:ext cx="89550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upa 6"/>
          <p:cNvGrpSpPr/>
          <p:nvPr/>
        </p:nvGrpSpPr>
        <p:grpSpPr>
          <a:xfrm>
            <a:off x="324000" y="630360"/>
            <a:ext cx="8578800" cy="1170000"/>
            <a:chOff x="324000" y="630360"/>
            <a:chExt cx="8578800" cy="1170000"/>
          </a:xfrm>
        </p:grpSpPr>
        <p:pic>
          <p:nvPicPr>
            <p:cNvPr id="354" name="Obraz 7" descr=""/>
            <p:cNvPicPr/>
            <p:nvPr/>
          </p:nvPicPr>
          <p:blipFill>
            <a:blip r:embed="rId2"/>
            <a:stretch/>
          </p:blipFill>
          <p:spPr>
            <a:xfrm>
              <a:off x="324000" y="797760"/>
              <a:ext cx="1041120" cy="100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upa 8"/>
            <p:cNvGrpSpPr/>
            <p:nvPr/>
          </p:nvGrpSpPr>
          <p:grpSpPr>
            <a:xfrm>
              <a:off x="1370520" y="851760"/>
              <a:ext cx="678960" cy="829080"/>
              <a:chOff x="1370520" y="851760"/>
              <a:chExt cx="678960" cy="829080"/>
            </a:xfrm>
          </p:grpSpPr>
          <p:pic>
            <p:nvPicPr>
              <p:cNvPr id="356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370520" y="851760"/>
                <a:ext cx="6789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Elipsa 18"/>
              <p:cNvSpPr/>
              <p:nvPr/>
            </p:nvSpPr>
            <p:spPr>
              <a:xfrm>
                <a:off x="1644840" y="91332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58" name="Elipsa 19"/>
              <p:cNvSpPr/>
              <p:nvPr/>
            </p:nvSpPr>
            <p:spPr>
              <a:xfrm>
                <a:off x="1754640" y="97704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pic>
          <p:nvPicPr>
            <p:cNvPr id="359" name="Obraz 9" descr=""/>
            <p:cNvPicPr/>
            <p:nvPr/>
          </p:nvPicPr>
          <p:blipFill>
            <a:blip r:embed="rId4"/>
            <a:stretch/>
          </p:blipFill>
          <p:spPr>
            <a:xfrm>
              <a:off x="2108880" y="703080"/>
              <a:ext cx="7149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Obraz 10" descr=""/>
            <p:cNvPicPr/>
            <p:nvPr/>
          </p:nvPicPr>
          <p:blipFill>
            <a:blip r:embed="rId5"/>
            <a:stretch/>
          </p:blipFill>
          <p:spPr>
            <a:xfrm>
              <a:off x="7099200" y="735480"/>
              <a:ext cx="1063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raz 11" descr=""/>
            <p:cNvPicPr/>
            <p:nvPr/>
          </p:nvPicPr>
          <p:blipFill>
            <a:blip r:embed="rId6"/>
            <a:stretch/>
          </p:blipFill>
          <p:spPr>
            <a:xfrm>
              <a:off x="4591800" y="964080"/>
              <a:ext cx="90396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Obraz 12" descr=""/>
            <p:cNvPicPr/>
            <p:nvPr/>
          </p:nvPicPr>
          <p:blipFill>
            <a:blip r:embed="rId7"/>
            <a:stretch/>
          </p:blipFill>
          <p:spPr>
            <a:xfrm>
              <a:off x="3715200" y="703080"/>
              <a:ext cx="9756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Obraz 13" descr=""/>
            <p:cNvPicPr/>
            <p:nvPr/>
          </p:nvPicPr>
          <p:blipFill>
            <a:blip r:embed="rId8"/>
            <a:stretch/>
          </p:blipFill>
          <p:spPr>
            <a:xfrm>
              <a:off x="7832880" y="797760"/>
              <a:ext cx="106992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4" descr=""/>
            <p:cNvPicPr/>
            <p:nvPr/>
          </p:nvPicPr>
          <p:blipFill>
            <a:blip r:embed="rId9"/>
            <a:stretch/>
          </p:blipFill>
          <p:spPr>
            <a:xfrm>
              <a:off x="6127200" y="75708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5" descr=""/>
            <p:cNvPicPr/>
            <p:nvPr/>
          </p:nvPicPr>
          <p:blipFill>
            <a:blip r:embed="rId10"/>
            <a:stretch/>
          </p:blipFill>
          <p:spPr>
            <a:xfrm>
              <a:off x="5235840" y="63036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6" descr=""/>
            <p:cNvPicPr/>
            <p:nvPr/>
          </p:nvPicPr>
          <p:blipFill>
            <a:blip r:embed="rId11"/>
            <a:stretch/>
          </p:blipFill>
          <p:spPr>
            <a:xfrm>
              <a:off x="2729880" y="736920"/>
              <a:ext cx="1206720" cy="10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5867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ceny różnych towar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C:\Users\Ania\AppData\Local\Microsoft\Windows\Temporary Internet Files\Content.IE5\CXABBVED\MC900412326[1].wmf"/>
          <p:cNvPicPr/>
          <p:nvPr/>
        </p:nvPicPr>
        <p:blipFill>
          <a:blip r:embed="rId1"/>
          <a:stretch/>
        </p:blipFill>
        <p:spPr>
          <a:xfrm>
            <a:off x="635040" y="1916280"/>
            <a:ext cx="1920960" cy="1834920"/>
          </a:xfrm>
          <a:prstGeom prst="rect">
            <a:avLst/>
          </a:prstGeom>
          <a:ln w="0">
            <a:noFill/>
          </a:ln>
        </p:spPr>
      </p:pic>
      <p:sp>
        <p:nvSpPr>
          <p:cNvPr id="422" name="pole tekstowe 5"/>
          <p:cNvSpPr/>
          <p:nvPr/>
        </p:nvSpPr>
        <p:spPr>
          <a:xfrm>
            <a:off x="596520" y="39337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iks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5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C:\Users\Ania\AppData\Local\Microsoft\Windows\Temporary Internet Files\Content.IE5\FZ4DAB55\MP900401195[1].jpg"/>
          <p:cNvPicPr/>
          <p:nvPr/>
        </p:nvPicPr>
        <p:blipFill>
          <a:blip r:embed="rId2"/>
          <a:stretch/>
        </p:blipFill>
        <p:spPr>
          <a:xfrm>
            <a:off x="5364000" y="2924280"/>
            <a:ext cx="1951200" cy="1562040"/>
          </a:xfrm>
          <a:prstGeom prst="rect">
            <a:avLst/>
          </a:prstGeom>
          <a:ln w="0">
            <a:noFill/>
          </a:ln>
        </p:spPr>
      </p:pic>
      <p:sp>
        <p:nvSpPr>
          <p:cNvPr id="424" name="pole tekstowe 10"/>
          <p:cNvSpPr/>
          <p:nvPr/>
        </p:nvSpPr>
        <p:spPr>
          <a:xfrm>
            <a:off x="7268400" y="292428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redki woskow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6" descr="C:\Users\Ania\AppData\Local\Microsoft\Windows\Temporary Internet Files\Content.IE5\AKSHKWQ7\MP900400573[1].jpg"/>
          <p:cNvPicPr/>
          <p:nvPr/>
        </p:nvPicPr>
        <p:blipFill>
          <a:blip r:embed="rId3"/>
          <a:stretch/>
        </p:blipFill>
        <p:spPr>
          <a:xfrm>
            <a:off x="3038400" y="1741320"/>
            <a:ext cx="1608120" cy="2009880"/>
          </a:xfrm>
          <a:prstGeom prst="rect">
            <a:avLst/>
          </a:prstGeom>
          <a:ln w="0">
            <a:noFill/>
          </a:ln>
        </p:spPr>
      </p:pic>
      <p:sp>
        <p:nvSpPr>
          <p:cNvPr id="426" name="pole tekstowe 12"/>
          <p:cNvSpPr/>
          <p:nvPr/>
        </p:nvSpPr>
        <p:spPr>
          <a:xfrm>
            <a:off x="4567680" y="17413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karon spaghett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3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7" descr="C:\Users\Ania\AppData\Local\Microsoft\Windows\Temporary Internet Files\Content.IE5\SI614T7F\MC900312536[1].wmf"/>
          <p:cNvPicPr/>
          <p:nvPr/>
        </p:nvPicPr>
        <p:blipFill>
          <a:blip r:embed="rId4"/>
          <a:stretch/>
        </p:blipFill>
        <p:spPr>
          <a:xfrm>
            <a:off x="2435400" y="4149720"/>
            <a:ext cx="1811160" cy="1870200"/>
          </a:xfrm>
          <a:prstGeom prst="rect">
            <a:avLst/>
          </a:prstGeom>
          <a:ln w="0">
            <a:noFill/>
          </a:ln>
        </p:spPr>
      </p:pic>
      <p:sp>
        <p:nvSpPr>
          <p:cNvPr id="428" name="pole tekstowe 14"/>
          <p:cNvSpPr/>
          <p:nvPr/>
        </p:nvSpPr>
        <p:spPr>
          <a:xfrm>
            <a:off x="4386240" y="4780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oszul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7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9" descr="C:\Users\Ania\AppData\Local\Microsoft\Windows\Temporary Internet Files\Content.IE5\SI614T7F\MC900113266[1].wmf"/>
          <p:cNvPicPr/>
          <p:nvPr/>
        </p:nvPicPr>
        <p:blipFill>
          <a:blip r:embed="rId5"/>
          <a:stretch/>
        </p:blipFill>
        <p:spPr>
          <a:xfrm>
            <a:off x="7786800" y="4789440"/>
            <a:ext cx="888840" cy="1629000"/>
          </a:xfrm>
          <a:prstGeom prst="rect">
            <a:avLst/>
          </a:prstGeom>
          <a:ln w="0">
            <a:noFill/>
          </a:ln>
        </p:spPr>
      </p:pic>
      <p:sp>
        <p:nvSpPr>
          <p:cNvPr id="430" name="pole tekstowe 17"/>
          <p:cNvSpPr/>
          <p:nvPr/>
        </p:nvSpPr>
        <p:spPr>
          <a:xfrm>
            <a:off x="6420960" y="49579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ukien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128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25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75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750"/>
                            </p:stCondLst>
                            <p:childTnLst>
                              <p:par>
                                <p:cTn id="46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25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prędkość poruszających się pojazdów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ole tekstowe 4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3" descr="C:\Users\Ania\AppData\Local\Microsoft\Windows\Temporary Internet Files\Content.IE5\SI614T7F\MP900399388[1].jpg"/>
          <p:cNvPicPr/>
          <p:nvPr/>
        </p:nvPicPr>
        <p:blipFill>
          <a:blip r:embed="rId1"/>
          <a:stretch/>
        </p:blipFill>
        <p:spPr>
          <a:xfrm>
            <a:off x="395280" y="1706400"/>
            <a:ext cx="2725920" cy="1816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Ania\AppData\Local\Microsoft\Windows\Temporary Internet Files\Content.IE5\CXABBVED\MP900427680[1].jpg"/>
          <p:cNvPicPr/>
          <p:nvPr/>
        </p:nvPicPr>
        <p:blipFill>
          <a:blip r:embed="rId2"/>
          <a:stretch/>
        </p:blipFill>
        <p:spPr>
          <a:xfrm>
            <a:off x="3300480" y="1695600"/>
            <a:ext cx="2604960" cy="18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C:\Users\Ania\AppData\Local\Microsoft\Windows\Temporary Internet Files\Content.IE5\AKSHKWQ7\MP900401312[1].jpg"/>
          <p:cNvPicPr/>
          <p:nvPr/>
        </p:nvPicPr>
        <p:blipFill>
          <a:blip r:embed="rId3"/>
          <a:stretch/>
        </p:blipFill>
        <p:spPr>
          <a:xfrm>
            <a:off x="6084720" y="169560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Users\Ania\AppData\Local\Microsoft\Windows\Temporary Internet Files\Content.IE5\FZ4DAB55\MP900399267[1].jpg"/>
          <p:cNvPicPr/>
          <p:nvPr/>
        </p:nvPicPr>
        <p:blipFill>
          <a:blip r:embed="rId4"/>
          <a:stretch/>
        </p:blipFill>
        <p:spPr>
          <a:xfrm>
            <a:off x="3300480" y="4149720"/>
            <a:ext cx="2604960" cy="1706400"/>
          </a:xfrm>
          <a:prstGeom prst="rect">
            <a:avLst/>
          </a:prstGeom>
          <a:ln w="0">
            <a:noFill/>
          </a:ln>
        </p:spPr>
      </p:pic>
      <p:sp>
        <p:nvSpPr>
          <p:cNvPr id="437" name="pole tekstowe 10"/>
          <p:cNvSpPr/>
          <p:nvPr/>
        </p:nvSpPr>
        <p:spPr>
          <a:xfrm>
            <a:off x="3123000" y="585612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100 węzłów (185km/h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ole tekstowe 11"/>
          <p:cNvSpPr/>
          <p:nvPr/>
        </p:nvSpPr>
        <p:spPr>
          <a:xfrm>
            <a:off x="195120" y="35766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315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ole tekstowe 12"/>
          <p:cNvSpPr/>
          <p:nvPr/>
        </p:nvSpPr>
        <p:spPr>
          <a:xfrm>
            <a:off x="2993040" y="360504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przelotowa  8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ole tekstowe 13"/>
          <p:cNvSpPr/>
          <p:nvPr/>
        </p:nvSpPr>
        <p:spPr>
          <a:xfrm>
            <a:off x="6658560" y="3595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2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75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75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1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25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250"/>
                            </p:stCondLst>
                            <p:childTnLst>
                              <p:par>
                                <p:cTn id="5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6" dur="1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upływający cza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2" descr="C:\Users\Ania\AppData\Local\Microsoft\Windows\Temporary Internet Files\Content.IE5\CXABBVED\MP900430829[1].jpg"/>
          <p:cNvPicPr/>
          <p:nvPr/>
        </p:nvPicPr>
        <p:blipFill>
          <a:blip r:embed="rId1"/>
          <a:stretch/>
        </p:blipFill>
        <p:spPr>
          <a:xfrm>
            <a:off x="611280" y="1589040"/>
            <a:ext cx="4537080" cy="3016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Ania\AppData\Local\Microsoft\Windows\Temporary Internet Files\Content.IE5\AKSHKWQ7\MP900309636[1].jpg"/>
          <p:cNvPicPr/>
          <p:nvPr/>
        </p:nvPicPr>
        <p:blipFill>
          <a:blip r:embed="rId2"/>
          <a:stretch/>
        </p:blipFill>
        <p:spPr>
          <a:xfrm>
            <a:off x="5148360" y="35002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5" name="pole tekstowe 9" descr=""/>
          <p:cNvPicPr/>
          <p:nvPr/>
        </p:nvPicPr>
        <p:blipFill>
          <a:blip r:embed="rId3"/>
          <a:stretch/>
        </p:blipFill>
        <p:spPr>
          <a:xfrm>
            <a:off x="560520" y="4694400"/>
            <a:ext cx="3981240" cy="811080"/>
          </a:xfrm>
          <a:prstGeom prst="rect">
            <a:avLst/>
          </a:prstGeom>
          <a:ln w="0">
            <a:noFill/>
          </a:ln>
        </p:spPr>
      </p:pic>
      <p:sp>
        <p:nvSpPr>
          <p:cNvPr id="446" name="pole tekstowe 10"/>
          <p:cNvSpPr/>
          <p:nvPr/>
        </p:nvSpPr>
        <p:spPr>
          <a:xfrm>
            <a:off x="6251040" y="27748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15 kwietnia 1999 rok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7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"/>
                            </p:stCondLst>
                            <p:childTnLst>
                              <p:par>
                                <p:cTn id="56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1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7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Zapis liczb w starożytnym Egipci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gipcjanie korzystali z systemu dziesiętnego, a liczby zapisywali przy użyciu </a:t>
            </a: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hieroglifów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tyczkę do mierzenia (kreska). Używając pionowej kreski zapisywano liczby od 1 do 9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kości pięty. Wygląda jak odwrócona wielka litera U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zwiniętą linię bądź laskę kapłańską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pęd lotosu symbolizujący Nil – rzekę życi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oznaczona była palcem wskazującym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żabę. Była to dla Egipcjan tak ogromna liczba, jak liczba żab w błotach Nilu po jego wylewach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liczba niewyobrażalna dla starożytnych. Znak przedstawia mężczyznę z podniesionymi do góry rękom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Ciekawa strona – </a:t>
            </a:r>
            <a:r>
              <a:rPr b="0" lang="pl-PL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pisanie hieroglifam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Obraz 5" descr=""/>
          <p:cNvPicPr/>
          <p:nvPr/>
        </p:nvPicPr>
        <p:blipFill>
          <a:blip r:embed="rId2"/>
          <a:stretch/>
        </p:blipFill>
        <p:spPr>
          <a:xfrm>
            <a:off x="1582560" y="3860640"/>
            <a:ext cx="5953320" cy="1543320"/>
          </a:xfrm>
          <a:prstGeom prst="rect">
            <a:avLst/>
          </a:prstGeom>
          <a:ln w="0">
            <a:noFill/>
          </a:ln>
        </p:spPr>
      </p:pic>
      <p:pic>
        <p:nvPicPr>
          <p:cNvPr id="370" name="Obraz 6" descr=""/>
          <p:cNvPicPr/>
          <p:nvPr/>
        </p:nvPicPr>
        <p:blipFill>
          <a:blip r:embed="rId3"/>
          <a:stretch/>
        </p:blipFill>
        <p:spPr>
          <a:xfrm>
            <a:off x="3911760" y="6021360"/>
            <a:ext cx="1295280" cy="581040"/>
          </a:xfrm>
          <a:prstGeom prst="rect">
            <a:avLst/>
          </a:prstGeom>
          <a:ln w="0">
            <a:noFill/>
          </a:ln>
        </p:spPr>
      </p:pic>
      <p:sp>
        <p:nvSpPr>
          <p:cNvPr id="371" name="pole tekstowe 7"/>
          <p:cNvSpPr/>
          <p:nvPr/>
        </p:nvSpPr>
        <p:spPr>
          <a:xfrm rot="20785200">
            <a:off x="5046480" y="5919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8c8c"/>
                </a:solidFill>
                <a:latin typeface="Tw Cen MT"/>
              </a:rPr>
              <a:t>Jaka to liczba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Obraz 8" descr=""/>
          <p:cNvPicPr/>
          <p:nvPr/>
        </p:nvPicPr>
        <p:blipFill>
          <a:blip r:embed="rId4"/>
          <a:stretch/>
        </p:blipFill>
        <p:spPr>
          <a:xfrm>
            <a:off x="7667640" y="-12600"/>
            <a:ext cx="1512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5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babiloń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babiloński pochodzi z Mezopotamii, znany około 5000 lat 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Babilończycy pisali pismem klinowym, a korzystali z systemu liczbowego o podstawie 60.</a:t>
            </a:r>
            <a:br>
              <a:rPr sz="2400"/>
            </a:br>
            <a:r>
              <a:rPr b="0" lang="pl-PL" sz="2400" spc="-1" strike="noStrike">
                <a:solidFill>
                  <a:srgbClr val="dd8047"/>
                </a:solidFill>
                <a:latin typeface="Tw Cen MT"/>
              </a:rPr>
              <a:t>Do dzisiaj dzielimy godziny na sześćdziesiąt minut, minuty na sześćdziesiąt seku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Obraz 3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4476600" cy="2657520"/>
          </a:xfrm>
          <a:prstGeom prst="rect">
            <a:avLst/>
          </a:prstGeom>
          <a:ln w="0">
            <a:noFill/>
          </a:ln>
        </p:spPr>
      </p:pic>
      <p:pic>
        <p:nvPicPr>
          <p:cNvPr id="376" name="Obraz 4" descr=""/>
          <p:cNvPicPr/>
          <p:nvPr/>
        </p:nvPicPr>
        <p:blipFill>
          <a:blip r:embed="rId2"/>
          <a:stretch/>
        </p:blipFill>
        <p:spPr>
          <a:xfrm>
            <a:off x="1042920" y="4068720"/>
            <a:ext cx="2536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375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grec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 używanych przez Greków systemów zapisywania liczb dwa zyskały szerszą popularność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attyc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bardzo podobny do późniejszego rzymskiego. Był to system addytywny o bazie dziesięć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jońs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który polegał na wykorzystaniu kolejnych liter alfabetu jako cyfr, na przyporządkowaniu każdej literze alfabetu greckiego jednej cyfry.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Obraz 4" descr=""/>
          <p:cNvPicPr/>
          <p:nvPr/>
        </p:nvPicPr>
        <p:blipFill>
          <a:blip r:embed="rId1"/>
          <a:stretch/>
        </p:blipFill>
        <p:spPr>
          <a:xfrm>
            <a:off x="4859280" y="2098800"/>
            <a:ext cx="3095640" cy="1638000"/>
          </a:xfrm>
          <a:prstGeom prst="rect">
            <a:avLst/>
          </a:prstGeom>
          <a:ln w="0">
            <a:noFill/>
          </a:ln>
        </p:spPr>
      </p:pic>
      <p:pic>
        <p:nvPicPr>
          <p:cNvPr id="380" name="Obraz 5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381" name="Obraz 6" descr=""/>
          <p:cNvPicPr/>
          <p:nvPr/>
        </p:nvPicPr>
        <p:blipFill>
          <a:blip r:embed="rId3"/>
          <a:stretch/>
        </p:blipFill>
        <p:spPr>
          <a:xfrm>
            <a:off x="7451640" y="-27000"/>
            <a:ext cx="1652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Maj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to indiańskie plemię, które zamieszkiwało południowo-wschodnią część Meksyku, Gwatemalę i część Hondurasu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wprowadzili pojęcie zer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Opracowali również własny kalendarz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tworzyli system dwudziestkowy, który opierał się na trzech symbolach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w Cen MT"/>
              </a:rPr>
              <a:t>kropk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pl-PL" sz="1800" spc="-1" strike="noStrike">
                <a:solidFill>
                  <a:srgbClr val="7030a0"/>
                </a:solidFill>
                <a:latin typeface="Tw Cen MT"/>
              </a:rPr>
              <a:t>kreska</a:t>
            </a:r>
            <a:r>
              <a:rPr b="0" lang="pl-PL" sz="1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1" lang="pl-PL" sz="18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Znak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kropki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 oznaczał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jednos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ozioma kreska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ią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5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zero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Liczby zapisywano w postaci kombinacji kropek i kresek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Odpowiednio pogrupowane stanowiły podstawo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estaw cyf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Obraz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87440" cy="1204920"/>
          </a:xfrm>
          <a:prstGeom prst="rect">
            <a:avLst/>
          </a:prstGeom>
          <a:ln w="0">
            <a:noFill/>
          </a:ln>
        </p:spPr>
      </p:pic>
      <p:pic>
        <p:nvPicPr>
          <p:cNvPr id="385" name="Obraz 5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573280"/>
          </a:xfrm>
          <a:prstGeom prst="rect">
            <a:avLst/>
          </a:prstGeom>
          <a:ln w="0">
            <a:noFill/>
          </a:ln>
        </p:spPr>
      </p:pic>
      <p:sp>
        <p:nvSpPr>
          <p:cNvPr id="386" name="Strzałka w dół 3"/>
          <p:cNvSpPr/>
          <p:nvPr/>
        </p:nvSpPr>
        <p:spPr>
          <a:xfrm>
            <a:off x="716436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trzałka w dół 6"/>
          <p:cNvSpPr/>
          <p:nvPr/>
        </p:nvSpPr>
        <p:spPr>
          <a:xfrm>
            <a:off x="6732720" y="4365720"/>
            <a:ext cx="287280" cy="4316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Strzałka w dół 7"/>
          <p:cNvSpPr/>
          <p:nvPr/>
        </p:nvSpPr>
        <p:spPr>
          <a:xfrm>
            <a:off x="673272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25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7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75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arab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599840"/>
            <a:ext cx="8372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yfry arabskie to znane nam: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0, 1, 2, 3, 4, 5, 6, 7, 8, 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k 2013 = 2 · 1000 + 0 · 100 + 1 · 10 +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arabski wywodzi się od cyfr indyjskich, które do Europy przywieźli Arabowie stąd ich nazwa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ierwszym zastosowaniem liczb arabskich było nie zapisywanie liczb piórem, tylko umieszczanie ich na żetonach służących do wykonywania rachunku na liczydłach, tzw.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abakach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C:\Users\Ania\AppData\Local\Microsoft\Windows\Temporary Internet Files\Content.IE5\AKSHKWQ7\MC900432271[1].wmf"/>
          <p:cNvPicPr/>
          <p:nvPr/>
        </p:nvPicPr>
        <p:blipFill>
          <a:blip r:embed="rId1"/>
          <a:stretch/>
        </p:blipFill>
        <p:spPr>
          <a:xfrm>
            <a:off x="7236000" y="494172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50"/>
                            </p:stCondLst>
                            <p:childTnLst>
                              <p:par>
                                <p:cTn id="290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24000" y="2276640"/>
            <a:ext cx="4824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5f55"/>
                </a:solidFill>
                <a:latin typeface="Tw Cen MT"/>
              </a:rPr>
              <a:t>Maja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urodzona 15.08.2001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godz. 14:50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54 cm  3300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2" descr="C:\Users\Ania\AppData\Local\Microsoft\Windows\Temporary Internet Files\Content.IE5\AKSHKWQ7\MP900448395[1].jpg"/>
          <p:cNvPicPr/>
          <p:nvPr/>
        </p:nvPicPr>
        <p:blipFill>
          <a:blip r:embed="rId1"/>
          <a:stretch/>
        </p:blipFill>
        <p:spPr>
          <a:xfrm>
            <a:off x="611280" y="1773360"/>
            <a:ext cx="2997000" cy="449568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573228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Wysokość gór, głębokość jezior i mórz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rostokąt 8"/>
          <p:cNvSpPr/>
          <p:nvPr/>
        </p:nvSpPr>
        <p:spPr>
          <a:xfrm>
            <a:off x="108000" y="1773360"/>
            <a:ext cx="2820960" cy="345600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97" name="Prostokąt 9"/>
          <p:cNvGrpSpPr/>
          <p:nvPr/>
        </p:nvGrpSpPr>
        <p:grpSpPr>
          <a:xfrm>
            <a:off x="244440" y="1938240"/>
            <a:ext cx="2559240" cy="2262240"/>
            <a:chOff x="244440" y="1938240"/>
            <a:chExt cx="2559240" cy="2262240"/>
          </a:xfrm>
        </p:grpSpPr>
        <p:pic>
          <p:nvPicPr>
            <p:cNvPr id="398" name="Prostokąt 9" descr=""/>
            <p:cNvPicPr/>
            <p:nvPr/>
          </p:nvPicPr>
          <p:blipFill>
            <a:blip r:embed="rId1"/>
            <a:stretch/>
          </p:blipFill>
          <p:spPr>
            <a:xfrm>
              <a:off x="244440" y="1938240"/>
              <a:ext cx="255924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50920" y="1943280"/>
              <a:ext cx="2539800" cy="22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0" name="Dowolny kształt 10"/>
          <p:cNvSpPr/>
          <p:nvPr/>
        </p:nvSpPr>
        <p:spPr>
          <a:xfrm>
            <a:off x="227160" y="4210200"/>
            <a:ext cx="2538360" cy="93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467000"/>
                <a:tab algn="l" pos="2933640"/>
                <a:tab algn="l" pos="4400640"/>
                <a:tab algn="l" pos="5867280"/>
                <a:tab algn="l" pos="7334280"/>
                <a:tab algn="l" pos="8801280"/>
                <a:tab algn="l" pos="1026792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zioro Śniardw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23,4 m głębokoś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1" name="Grupa 33"/>
          <p:cNvGrpSpPr/>
          <p:nvPr/>
        </p:nvGrpSpPr>
        <p:grpSpPr>
          <a:xfrm>
            <a:off x="3052800" y="1778040"/>
            <a:ext cx="3062160" cy="3451320"/>
            <a:chOff x="3052800" y="1778040"/>
            <a:chExt cx="3062160" cy="3451320"/>
          </a:xfrm>
        </p:grpSpPr>
        <p:sp>
          <p:nvSpPr>
            <p:cNvPr id="402" name="Prostokąt 34"/>
            <p:cNvSpPr/>
            <p:nvPr/>
          </p:nvSpPr>
          <p:spPr>
            <a:xfrm>
              <a:off x="3052800" y="1778040"/>
              <a:ext cx="3062160" cy="34513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Dowolny kształt 36"/>
            <p:cNvSpPr/>
            <p:nvPr/>
          </p:nvSpPr>
          <p:spPr>
            <a:xfrm>
              <a:off x="3182040" y="4212720"/>
              <a:ext cx="2756160" cy="931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Najwyższy szczyt w Tatrach - Gerlach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2655 m wysokości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04" name="Obraz 11" descr=""/>
          <p:cNvPicPr/>
          <p:nvPr/>
        </p:nvPicPr>
        <p:blipFill>
          <a:blip r:embed="rId2"/>
          <a:stretch/>
        </p:blipFill>
        <p:spPr>
          <a:xfrm>
            <a:off x="3160800" y="1938240"/>
            <a:ext cx="2851200" cy="2138400"/>
          </a:xfrm>
          <a:prstGeom prst="rect">
            <a:avLst/>
          </a:prstGeom>
          <a:ln w="0">
            <a:noFill/>
          </a:ln>
        </p:spPr>
      </p:pic>
      <p:sp>
        <p:nvSpPr>
          <p:cNvPr id="405" name="Prostokąt 3"/>
          <p:cNvSpPr/>
          <p:nvPr/>
        </p:nvSpPr>
        <p:spPr>
          <a:xfrm>
            <a:off x="6227640" y="1773360"/>
            <a:ext cx="2806920" cy="345276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6" name="Prostokąt 4"/>
          <p:cNvGrpSpPr/>
          <p:nvPr/>
        </p:nvGrpSpPr>
        <p:grpSpPr>
          <a:xfrm>
            <a:off x="6364440" y="1908000"/>
            <a:ext cx="2541600" cy="2163960"/>
            <a:chOff x="6364440" y="1908000"/>
            <a:chExt cx="2541600" cy="2163960"/>
          </a:xfrm>
        </p:grpSpPr>
        <p:pic>
          <p:nvPicPr>
            <p:cNvPr id="407" name="Prostokąt 4" descr=""/>
            <p:cNvPicPr/>
            <p:nvPr/>
          </p:nvPicPr>
          <p:blipFill>
            <a:blip r:embed="rId3"/>
            <a:stretch/>
          </p:blipFill>
          <p:spPr>
            <a:xfrm>
              <a:off x="6364440" y="1908000"/>
              <a:ext cx="2541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69120" y="1916280"/>
              <a:ext cx="2525760" cy="21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9" name="Dowolny kształt 5"/>
          <p:cNvSpPr/>
          <p:nvPr/>
        </p:nvSpPr>
        <p:spPr>
          <a:xfrm>
            <a:off x="6369120" y="4127400"/>
            <a:ext cx="2525760" cy="89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orze Bałtycki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Średnia głębokość 52,3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Największa głębia 459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ole tekstowe 47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7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"/>
                            </p:stCondLst>
                            <p:childTnLst>
                              <p:par>
                                <p:cTn id="3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012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wyniki sportow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C:\Users\Ania\AppData\Local\Microsoft\Windows\Temporary Internet Files\Content.IE5\FZ4DAB55\MP900407439[1].jpg"/>
          <p:cNvPicPr/>
          <p:nvPr/>
        </p:nvPicPr>
        <p:blipFill>
          <a:blip r:embed="rId1"/>
          <a:stretch/>
        </p:blipFill>
        <p:spPr>
          <a:xfrm>
            <a:off x="3240000" y="162864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414" name="Symbol zastępczy zawartości 6" descr=""/>
          <p:cNvPicPr/>
          <p:nvPr/>
        </p:nvPicPr>
        <p:blipFill>
          <a:blip r:embed="rId2"/>
          <a:srcRect l="0" t="7429" r="0" b="487"/>
          <a:stretch/>
        </p:blipFill>
        <p:spPr>
          <a:xfrm>
            <a:off x="108000" y="1628640"/>
            <a:ext cx="2952720" cy="2040120"/>
          </a:xfrm>
          <a:prstGeom prst="rect">
            <a:avLst/>
          </a:prstGeom>
          <a:ln w="0">
            <a:noFill/>
          </a:ln>
        </p:spPr>
      </p:pic>
      <p:pic>
        <p:nvPicPr>
          <p:cNvPr id="415" name="Obraz 9" descr=""/>
          <p:cNvPicPr/>
          <p:nvPr/>
        </p:nvPicPr>
        <p:blipFill>
          <a:blip r:embed="rId3"/>
          <a:stretch/>
        </p:blipFill>
        <p:spPr>
          <a:xfrm>
            <a:off x="34920" y="3668760"/>
            <a:ext cx="309708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Obraz 8" descr=""/>
          <p:cNvPicPr/>
          <p:nvPr/>
        </p:nvPicPr>
        <p:blipFill>
          <a:blip r:embed="rId4"/>
          <a:stretch/>
        </p:blipFill>
        <p:spPr>
          <a:xfrm>
            <a:off x="3235320" y="3668760"/>
            <a:ext cx="3597120" cy="1093680"/>
          </a:xfrm>
          <a:prstGeom prst="rect">
            <a:avLst/>
          </a:prstGeom>
          <a:ln w="0">
            <a:noFill/>
          </a:ln>
        </p:spPr>
      </p:pic>
      <p:pic>
        <p:nvPicPr>
          <p:cNvPr id="417" name="Obraz 10" descr=""/>
          <p:cNvPicPr/>
          <p:nvPr/>
        </p:nvPicPr>
        <p:blipFill>
          <a:blip r:embed="rId5"/>
          <a:stretch/>
        </p:blipFill>
        <p:spPr>
          <a:xfrm>
            <a:off x="5299200" y="5084640"/>
            <a:ext cx="3711600" cy="162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Users\Ania\AppData\Local\Microsoft\Windows\Temporary Internet Files\Content.IE5\SI614T7F\MP900430733[1].jpg"/>
          <p:cNvPicPr/>
          <p:nvPr/>
        </p:nvPicPr>
        <p:blipFill>
          <a:blip r:embed="rId6"/>
          <a:srcRect l="6650" t="0" r="0" b="0"/>
          <a:stretch/>
        </p:blipFill>
        <p:spPr>
          <a:xfrm>
            <a:off x="6711840" y="2492280"/>
            <a:ext cx="2284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1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1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1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9-03T20:20:06Z</dcterms:modified>
  <cp:revision>56</cp:revision>
  <dc:subject/>
  <dc:title>Liczby i cyfry</dc:title>
</cp:coreProperties>
</file>